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1C0-AC41-466C-896F-F622BEDD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7A8-1374-4D94-BA7E-134FC0A1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862-B5F4-4003-9BC4-CE7380DB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BA7-57B1-4BBA-8CA9-7CFDFC5B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458F-F07F-4DD8-9148-C5BDCC45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26D3-23F8-40B8-80FA-9DB4CEE7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9A6C-9258-4787-9C02-7CAE51FE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5442-BBF0-4863-9528-75DB622D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E2E8-739A-42C7-9595-C3834BAB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3D29-F5FE-4C01-AD83-E93319B9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456D-17A9-48CF-A9BC-A5EEAFCD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1D4-1320-467F-AAFF-9D2523BC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6E2E-BBE0-4D0A-A1F2-AD1DDF11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0C5B-BE9F-4962-B7C5-0DBFC759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0957-898D-4795-AC34-B851F58F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EF71-A259-4D94-94EA-6C197729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8437-9824-4AD7-950A-DF3554E6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8B7E-F6D3-476E-8008-386C3837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179-6BB5-4256-A102-7CF8DB86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79A-5F9C-4BE1-9E15-356598FE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C7E-ADC5-4094-A606-3A4498B4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48D-9CFB-4AAD-A6DF-410E8B03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2D9-FFED-417F-A655-FED6E1EF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FC8-FFE5-4DCF-A9B1-E8EA6E72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FCBD-42FB-481F-AC6F-D9FBBF62BC07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FEA0-7E05-47E7-A344-EBD960C9ED33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fff00"/>
                </a:solidFill>
                <a:latin typeface="Tahoma"/>
              </a:rPr>
              <a:t>الوقاية من العنف الأ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. فضيلة المحرو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لجنة حماية الطفل – وزارة الصح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،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البحر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لمؤتمر العربي الاقليمي  لحماية الأسرة من العن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عمان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يسمبر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أهم التحديات في مواجهة</a:t>
            </a:r>
            <a:r>
              <a:rPr b="1" lang="ar-BH" sz="3200" spc="-1" strike="noStrike">
                <a:solidFill>
                  <a:srgbClr val="eaeaea"/>
                </a:solidFill>
                <a:latin typeface="Tahoma"/>
              </a:rPr>
              <a:t> العنف الاسري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صان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قانون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د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متلاك المرأة لقرار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ق الرجل المطل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وجود البدائ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أفض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توفر الخدمات الحكومية او الدعم من مؤسسات المجتمع المد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القانونية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ظر العنف و تجريم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ؤامة قوانين الاسرة مع حقوق الانسان و الاتفاقيات الدول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تناد الى سماحة الشريعة و ليس التفسير الضي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ل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أصلاح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عنف الأسري  في البرامج التعليمية و التدريبية للقضاة و الشرط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رش عمل متعددة التخصص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الاجتماعية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غيير النفوس قبل النصوص \ تغيير القيم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نظر للعنف الاسري كقضية 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صحية و قانو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عنف الاسري هو ايذاء و سوء معاملة و انتهاك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قوق الانسا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يس تأدي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لمرأ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طلوب وضع حدا للعنف و ليس للحياة الزو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الوقاية من العنف -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تصدي للعوامل المسببة أو المترافقة مع العنف  مثل محاربة الأمية ، الجهل ، الفقر و البطال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ضع حدا للزواج المبكر و التب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ين العمر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نمية المهارات الوالد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نشئة الاجتماعية و نبذ العنف كأسلوب لحل الخلاف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كاتب للتوجيه و الارشاد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وعية المجتمع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حول الظاه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راء دراسات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حول الع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اقع سوء معاملة الأطفال في الوطن العربي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130120"/>
            <a:ext cx="75438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هناك العديد من الأطفال يعانون من سوء المعاملة و المجتمع عاجز عن حمايت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نادرا ما يتحمل المعتدين مسئولية خطأهم و يستمرون في سلوك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محدودية صلاحيات و امكانيات الجهات المعنية بالحما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التنسيق بين الجهات المعنية دون المستوى المطلو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Tahoma"/>
              </a:rPr>
              <a:t>التحديات التي تعرقل جهود التدخل و الوقاي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ظروف الاقتصادية ل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قيم و المفاهيم والسلوكيات الاجتماع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قصور التشريعات الوطنية و عدم موأمتها لاتفاقية 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عدم كفاية الردعية في العقوبات المقررة بحق المعتد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جهاز قضائي غير مهيأ لتلبية احتياجات الاطفا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</a:t>
            </a:r>
            <a:r>
              <a:rPr b="1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ولية:</a:t>
            </a:r>
            <a:r>
              <a:rPr b="1" lang="ar-SA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سرة</a:t>
            </a:r>
            <a:r>
              <a:rPr b="0" lang="ar-SA" sz="5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مهارات الاجتماعية و الحياتية 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صحة الانجابية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ثقافة الأسرية و التدبير المنزلي لكل  المقبلين على الزواج ذكورا  و  إناث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سن قانون الزامية التعليم و وضع آليات تنفيذ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قانون ل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حوال الشخصية ( سن الزواج &lt;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سنة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تمكين الاسرة العربية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تعليم + عمل + مسكن + ثقافة أسر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تدخل و العلاج – الوقاية الثالثة</a:t>
            </a:r>
            <a:r>
              <a:rPr b="0" lang="en-US" sz="5400" spc="-1" strike="noStrike">
                <a:solidFill>
                  <a:srgbClr val="eaeaea"/>
                </a:solidFill>
                <a:latin typeface="Tahoma"/>
                <a:ea typeface="Andalus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مراكز لتقديم الخدمة الصحية و النفسية و الاجتماعية  و القانونية لضحايا الاعتدا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إعطاء صلاحيات و إمكانيات اكبر و تفرغ للهيئات المعنية بحماية الطف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آليات واضحة للتنسيق بين وزارات الصحة ، التعليم ، الشئون الاجتماعية ، العدل و الداخل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تأهيل المعتدي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بحوث ميدانية بمنهجية علم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تدريب المهنيين المستم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 القانون و تطبيق العدال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القوانين المتعلقة بحماية الطفل و موأمتها مع الاتفاقية الدولية ل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يجاد جهاز قضائي متخصص و متحسس و متجاوب مع حاجات الطفل و تعقيدات الاعتداءات ضمن نفس ا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شديد العقوبات المقررة و تنفيذ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و تشديد القوانين المتعلقة بالعنف الاسري (ضد المرأة و الطفل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  <a:cs typeface="Times New Roman"/>
              </a:rPr>
              <a:t>الوقاية</a:t>
            </a:r>
            <a:r>
              <a:rPr b="1" lang="ar-SA" sz="4800" spc="-1" strike="noStrike">
                <a:solidFill>
                  <a:srgbClr val="eaeaea"/>
                </a:solidFill>
                <a:latin typeface="Tahoma"/>
                <a:ea typeface="Times New Roman"/>
              </a:rPr>
              <a:t> :  الاعلام و الثقافة</a:t>
            </a: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خطة إعلامية لمحاربة أفلام العنف و الاباحية الجنس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وقاية الاطفال من الاستغلال الجنسي عبر الانترن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ستخدام الامثل لوسائط الاعلام للتوعية حول ظاهرة سوء المعاملة و عواقبها و الوقاية من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محاربة الصورة النمطية للأسرة في الشاشة العربي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أب المتسلط العنيف و الأم التي لا حول لها و لا قو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     و غياب التواصل و التعاطي السليم مع الخلاف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محاور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ا هي المسببات \ العوامل المرافقة للعنف الاسري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ظاهر قبول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ماذا ترضخ النساء للعنف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صدي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قاية من ايذاء الأطف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الخلاصة التعاطي مع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العنف الأسري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 يتطلب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فهم أعمق للمشكلة يستند على الحقائ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رؤية مستقبلية ذات اهداف واضحة و محدد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قرار الترابط بين الوقاية و التدخل و تحميل الجاني المسئولي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الشراكة و 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لعمل معا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كسر الحلقة المفرغة  من أين نبدأ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حجم المشكل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 البحري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4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ص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2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ضفة الغربية و قطاع غزة (السنة الماضي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في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يرة جماهيرية كبيرة تعتبر الأكبر من حيث العدد في تاريخ البحرين قدرت بحوالي مائة وعشرين ألف مشارك من الجنسين تقدمها علماء الدين عصر يوم اليوم الأربعاء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نوفمبر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في منطقة المنامة 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لبت بضمانات شرعية وفقهية لإصدار قانون أحكام الأسرة الذي تنوي السلطة البحرينية إصداره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كانت المسيرة قد بدأ من منحنى مجمع جيان في منطقة سنابس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بينما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صل رأس المسيرة إلى بداية كوبري اللؤلؤة حيث قدر طولها بكيلومترين، وبعرض ثلاثين شخص في كل صف في المتوسط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8380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5715000"/>
            <a:ext cx="518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في مصر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نس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% من المتعل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9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عامل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وافقن على حق الرجل في ضرب المرأ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باب المبررة: رفض الجنس ، عدم طاعة الرجل ، إهمال الاطفا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ما هي المسببات \ العوامل المرافقة للعنف الاسري</a:t>
            </a:r>
            <a:r>
              <a:rPr b="1" lang="ar-BH" sz="4800" spc="-1" strike="noStrike">
                <a:solidFill>
                  <a:srgbClr val="eaeaea"/>
                </a:solidFill>
                <a:latin typeface="Tahoma"/>
              </a:rPr>
              <a:t>؟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عرض للعنف كطف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لقة العنف المفرغ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ضع ال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تحصيل العلم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الاجتماعي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الدي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تواصل العائل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ضطرا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ت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شخص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أمراض النفس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دما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يم الاجتماعية و التقال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قيم الاجتماعية و التقاليد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تجاهل العنف و تحمله بل و قبوله اجتماعي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رفض العنف الاسري = هدم القيم العائلية و التقاليد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!!!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بقاء الاسرة معا تعلو فوق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كل اعتبار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العنف ال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أ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سري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شأن عائلي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خا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العنف هو حق للرجل و تنفيذا للارادة الاله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قانون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و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 اذا لم يجيزه فهو ل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منعه او يجر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رض الزواج خصوصا المبكر و تزويج القاصر هو نوعا من العنف؟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ديان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ستند  على العدال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حق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المودة و الرحمة ولايمكن أن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يز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فسير الضيق للشريعة لتبرير التقاليد المجتمعي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عطاء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معن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حصانة لممارسة العن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مظاهر قبول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القانو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تجاهل القضاة الشرعي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صعوبة اثبات الضر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ض النظر من قبل الدولة و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خدمات الايواء و المساعدة القانونية و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قصور في خدمات 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عدم التبليغ عن حالات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و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نكا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شية من نبذ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بول المجتمع للع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اهل المؤسسة الرسم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لماذا ترضخ النساء للعنف؟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ناعة غالبية النساء بأن هذا حقا للرج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عتماد الاقتصادي عل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عدم قدر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رأ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على الاستقل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في منزل منفص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ضغوط الاجتماعية للحفاظ على العائ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وقف المجتمعي من المطلق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لقدرة على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خوف من فقدان الحضا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قدان الامل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ي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الة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ا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ذا المَسيرةُ سُئَلَتْ بأيّ عقلٍ خََرَج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حماقة استُجوِبت بأي دافع كتب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أسئِلةُ سُئِـلَت بأي ذَنبِ قُـمِع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6:06:42Z</dcterms:created>
  <dc:creator>user</dc:creator>
  <dc:description/>
  <dc:language>en-US</dc:language>
  <cp:lastModifiedBy>MOHAMMED</cp:lastModifiedBy>
  <dcterms:modified xsi:type="dcterms:W3CDTF">2008-11-07T17:57:36Z</dcterms:modified>
  <cp:revision>24</cp:revision>
  <dc:subject/>
  <dc:title>الوقاية من العنف الأسري</dc:title>
</cp:coreProperties>
</file>